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5760-2D35-44D0-A59D-37CF975F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0FE0-A6E7-4CC9-B271-EB7A531A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6A04-453A-49B7-9C2A-4590E275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2E8F-DB40-4D73-B77C-88DD86E8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F5DA-71AA-4502-AA2C-53C042A0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4776-EF23-4A24-A2EF-364720C5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568-2C48-4E65-BB92-A67AC83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983F-23F9-45BD-8FAB-1B67EE8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86BC-1A68-4DE5-A02D-09E598C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EA56-29FD-4B2B-A6CD-FCEE1C0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BDAA-86CD-4BB1-858D-4A85246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4919-24C4-4608-B6A5-FCB690B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E181-B6E5-41DD-8730-62D09552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2CC2-A6DC-47EE-A004-676A752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A88-63C0-471B-A7A1-07C2ACA5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27D6-897F-4AAD-ABAD-E08545E5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D28B-325E-4993-B72C-BE365F52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66F5-7728-401D-BFFD-A2CBA12F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B6D7-EEB2-485E-BE52-5CE0A8C3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6820-DC90-4173-9E3B-80E8D09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0D4A-4F8B-4699-B7B0-17956127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CEB7-EBC4-4086-9FD5-D1927255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ACFC-B80A-4A0D-8930-9DBFCC0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39A1-4532-479B-ADD8-D83A0E4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B76-CC0B-4F7B-A330-71BDEB7A8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496-954E-4F61-BBDF-72B289E03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Mass Relationships in Chemical Reac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ABD-FF0D-4623-89BB-37E3ED0B69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-252360" y="692280"/>
          <a:ext cx="8892720" cy="3415680"/>
        </p:xfrm>
        <a:graphic>
          <a:graphicData uri="http://schemas.openxmlformats.org/drawingml/2006/table">
            <a:tbl>
              <a:tblPr/>
              <a:tblGrid>
                <a:gridCol w="493920"/>
                <a:gridCol w="450720"/>
                <a:gridCol w="7948080"/>
              </a:tblGrid>
              <a:tr h="85392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What information would you need to calculate the average atomic mass of an elem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 The number of neutrons in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 The atomic number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he mass and abundance of each isotope of the ele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 The position in the periodic table of the ele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3229-DA3D-4AB1-8AD5-524B652831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theoretical yield of Ti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: Masses of two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ing reage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reacta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calculate the moles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s the less number of mo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imiting re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grams of product (theoretical yield of the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1484280"/>
            <a:ext cx="5976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ي بمعنى اخر: احسبي وزنه التيتانيوم الناتجه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0198-C9EC-4B9C-A759-55B4325AAEFF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68360" y="620640"/>
            <a:ext cx="835164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9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(Ti) =1.87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593640" y="1268280"/>
                <a:ext cx="7524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965B-7DBE-4082-91EA-2698083B9B9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68360" y="620640"/>
            <a:ext cx="8351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s of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 M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ol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64 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?n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482760" y="1197000"/>
                <a:ext cx="774828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374840" y="4508640"/>
                <a:ext cx="581652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9CB9-374F-40D5-8F4D-59ACBA2F6E5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39640" y="476280"/>
            <a:ext cx="806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(Ti) is the less number of moles (limiting reagent) = 1.87 x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T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ms of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mass of Ti = theoretical yield of T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m =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1042920" y="3933720"/>
                <a:ext cx="723276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x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0F09-2374-4BDF-ACB9-819514248BE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68360" y="4572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066680" y="1773360"/>
                <a:ext cx="691056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 yield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46836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.W. Solve the practice exercise p1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0677-CA52-4967-9425-3E791C88A48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56000" y="220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d of 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3FAE-3206-4B98-ABBB-A31B8854D8A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476280"/>
            <a:ext cx="8497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2009a7"/>
                </a:solidFill>
                <a:uFillTx/>
                <a:latin typeface="Comic Sans MS"/>
              </a:rPr>
              <a:t>Example 3.1 p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tomic masses of the Copper isotop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re 62.93 amu &amp; 64.9278 amu, respectively. Calculate the average atomic mass of cop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692360" y="1916280"/>
                <a:ext cx="5470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0B81-0927-47E5-955B-B6506EE0E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333360"/>
            <a:ext cx="889308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rcentag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r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9.09% = 69.09/100 = 0.6909; 30.91% = 30.91/100 = 0.3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AM will be closer to the mass of the isotope with the largest natural abu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THUS: Average atomic mass of cop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= (0.6909 x 62.93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3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+ (0.3091 x 64.9278)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65Cu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= 63.55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646740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Comic Sans MS"/>
              </a:rPr>
              <a:t>H.W. Solve the Practice Exercise p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C938-9964-49A8-93E5-AFC831F3D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-108000" y="441360"/>
          <a:ext cx="8381880" cy="2555640"/>
        </p:xfrm>
        <a:graphic>
          <a:graphicData uri="http://schemas.openxmlformats.org/drawingml/2006/table">
            <a:tbl>
              <a:tblPr/>
              <a:tblGrid>
                <a:gridCol w="644400"/>
                <a:gridCol w="538200"/>
                <a:gridCol w="7199280"/>
              </a:tblGrid>
              <a:tr h="11480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odine has two isotopes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 and </a:t>
                      </a:r>
                      <a:r>
                        <a:rPr b="0" lang="en-US" sz="2400" spc="-1" strike="noStrike" baseline="30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127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,  with the equal abund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Calculate the average atomic mass of Iodine (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53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I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126.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5.4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65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1.92 am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CE6C-089D-438B-B726-D8150C7CBD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8000" y="549360"/>
            <a:ext cx="889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6633"/>
                </a:solidFill>
                <a:uFillTx/>
                <a:latin typeface="Comic Sans MS"/>
              </a:rPr>
              <a:t>NOTE: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 Atomic Mass of an isotop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0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= Average Atomic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C609-E911-40E1-AD3A-DF58874B29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2 Avogadro’s Number and the Molar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(mol) is the SI unit of the amount of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vogadro’s Number (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ne mole of each substance contains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articl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c.)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6.022 x 10</a:t>
            </a:r>
            <a:r>
              <a:rPr b="0" lang="en-GB" sz="3200" spc="-1" strike="noStrike" baseline="30000">
                <a:solidFill>
                  <a:srgbClr val="a50021"/>
                </a:solidFill>
                <a:latin typeface="Comic Sans MS"/>
              </a:rPr>
              <a:t>23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 Avogadro's Number (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6.022 x 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ticles (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atom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molecul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ion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C6A9-BDC5-4042-9333-F2BA15BD34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340000" y="620640"/>
            <a:ext cx="3816000" cy="3384360"/>
            <a:chOff x="2340000" y="620640"/>
            <a:chExt cx="3816000" cy="3384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2340000" y="1389960"/>
              <a:ext cx="3816000" cy="26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38240" y="6206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ozen =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4005360"/>
            <a:ext cx="64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dozen = 12 An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 mol = 6.022 x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71AC-5E7E-4791-8763-B281487089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BD11-EC98-4D55-B011-0DCC5B8384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26" descr="03_01"/>
          <p:cNvPicPr/>
          <p:nvPr/>
        </p:nvPicPr>
        <p:blipFill>
          <a:blip r:embed="rId1"/>
          <a:srcRect l="0" t="11559" r="0" b="12764"/>
          <a:stretch/>
        </p:blipFill>
        <p:spPr>
          <a:xfrm>
            <a:off x="-108000" y="981000"/>
            <a:ext cx="9396360" cy="533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7640" y="119700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94020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15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1440" y="36511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88360" y="12747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ne mole of Sulp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31C5-3EE4-4953-B4C0-2530A02CB0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lar mass (M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ss (in g or kg) of one mole of a subst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 = mass/mo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ONE MOLE: 1 amu = 1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atomic mass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is 12.00 amu = 12.0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12.00 amu = 12.00 g = has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atom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has 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e Molar Mass (M)  of 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1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C = 12.00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2060640"/>
            <a:ext cx="3959280" cy="647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139920"/>
            <a:ext cx="5040360" cy="576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6B60-0114-4945-8018-E8C884D931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3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Mass Relationships in Chemical Reactions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80-107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10-11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5, 3.6, 3.7, 3.8, 3.14, 3.16, 3.18, 3.20, 3.22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.24, 3.26, 3.28, 3.40, 3.42, 3.44, 3.46, 3.48, 3.50, 3.52, 3.44, 3.46, 3.48, 3.50, 3.52, 3.60, 3.84, 3.86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374E-5447-4F27-9D49-940080BD0E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7640" y="54900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Atomic Mass of an isotop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e.g. 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 &amp; </a:t>
            </a:r>
            <a:r>
              <a:rPr b="0" lang="en-US" sz="4400" spc="-1" strike="noStrike" baseline="30000">
                <a:solidFill>
                  <a:srgbClr val="666633"/>
                </a:solidFill>
                <a:latin typeface="Comic Sans MS"/>
              </a:rPr>
              <a:t>13</a:t>
            </a:r>
            <a:r>
              <a:rPr b="0" lang="en-US" sz="4400" spc="-1" strike="noStrike">
                <a:solidFill>
                  <a:srgbClr val="666633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tomic Mass of an e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e.g. 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s Average Atomic M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l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Average Atomic Mass C = Atomic Mass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C349-BF87-425F-94B3-2825845598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07280" cy="2016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Molar Mass (g/mo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Atomic Mass (am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93544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1. The atomic mass of Na = 22.99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009a7"/>
                </a:solidFill>
                <a:latin typeface="Comic Sans MS"/>
              </a:rPr>
              <a:t>The molar mass of Na = 22.9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2. The atomic mass of P = 30.9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Comic Sans MS"/>
              </a:rPr>
              <a:t>The molar mass of P = 30.97 g/mol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3D48E-A70F-4731-AB95-8EB941636D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2 p8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3327-31EF-418A-AB5D-C443913543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He = The Molar mass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He = The molar mass of He = 4.003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4.003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.46 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? Moles (?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1.61 moles of He atoms in 6.46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14560" y="3990960"/>
                <a:ext cx="5905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835280" y="6346800"/>
            <a:ext cx="6373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DA99-787A-48E1-A561-ABBCEE6D6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12720" y="476280"/>
            <a:ext cx="5832720" cy="302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0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24360" y="2565360"/>
                <a:ext cx="25923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512720" y="3645000"/>
            <a:ext cx="5832720" cy="30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= number of atoms o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ogadro's number (atoms (or molecules)/m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60720" y="5786280"/>
                <a:ext cx="4537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om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molecule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347A-8C7F-457D-A199-3DC889682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mole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He atoms are in 6.4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280" y="1916280"/>
                <a:ext cx="784836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259B-0DD3-4F1C-9F10-9C65419CD6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3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932C-7D13-4E7A-84DC-CB23F344C9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umber of moles =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 atomic mass of Zn = The Molar mass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The Atomic mass of Zn = molar mass of Zn = 65.3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65.39 g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1 mole of 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g of He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0.356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us: there is 23.3 g of Zn atoms in 0.356 mole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005360"/>
                <a:ext cx="6694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 x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g of Z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158920" y="6237360"/>
            <a:ext cx="594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H.W. Solve the Practice Exercise p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178E-CD31-4A0A-A83F-1B564A5B95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620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How many gram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of Zn  are in 0.356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f Z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2880" y="1916280"/>
                <a:ext cx="827568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3B20-78CB-4A8C-9A3A-E337673EB3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280" y="620640"/>
            <a:ext cx="8497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4 p8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How many moles in 16.3 g of S = X</a:t>
            </a: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moles </a:t>
            </a:r>
            <a:r>
              <a:rPr b="0" lang="en-GB" sz="32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?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028A-704E-4137-AD57-D282E006FD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3: Mass Relationships in Chemical Reactions: Outli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Comic Sans MS"/>
              </a:rPr>
              <a:t>3.1 Atomic M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3.2 Avogadro’s Number and Molar Mass of 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.3 Molecular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3.5 Percent Composition of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3.6 Experimental Determination of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9a7"/>
                </a:solidFill>
                <a:latin typeface="Comic Sans MS"/>
              </a:rPr>
              <a:t>3.9 Limiting 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10 Reaction Yi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C2F2-A372-4FF2-B863-51AF64531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04640"/>
            <a:ext cx="87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rom the periodic Table: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The atomic mass of S = 32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molar mass of S = 32.07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us: 32.07 g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 mole of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6.3 g of 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? m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e know: 1 mol of S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022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            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0.508 mole </a:t>
            </a: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? 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There is 3.06 x10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 atoms of S in 16.3 g of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6539040"/>
            <a:ext cx="4284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50021"/>
                </a:solidFill>
                <a:latin typeface="Comic Sans MS"/>
              </a:rPr>
              <a:t>H.W. Solve the Practice Exercise p8</a:t>
            </a:r>
            <a:r>
              <a:rPr b="1" lang="ar-SA" sz="1600" spc="-1" strike="noStrike">
                <a:solidFill>
                  <a:srgbClr val="a50021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79640" y="3429000"/>
                <a:ext cx="4176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 x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35280" y="5229360"/>
                <a:ext cx="4176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mber of S atom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0A19-039A-499A-9A71-E4D6E5FAA0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11280" y="62064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How many S atoms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 are in 16.3 g of 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1628640"/>
                <a:ext cx="78073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1280" y="3429000"/>
                <a:ext cx="79930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ED2E-54A2-48DE-8301-8073924413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Molecular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 (molecular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sum of the atomic masses (in amu) in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cu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(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lecular Mass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ltiply the atomic mass of each element by the number of atoms of that element present in the molecule and sum over all th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.g. Molecular Mass of 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atomic mass of H) + (1x atomic mass of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(2 x 1.008 amu) + (1x 16.00 amu) = 18.02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9430-693D-4AF1-89E7-9FC99ADD83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870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5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molecular masses (in amu)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following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a) Sulphur dioxide (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(b) Caffeine (C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3141720"/>
            <a:ext cx="88200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cular mass of S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1 x 32.07) + (2 x 16.00) = 64.07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Molecular mass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8 x 12.01) + (10 x 1.008)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4 x 14.01) + (2 x 16.00) =194.2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BDF2-84C1-4780-B53E-0A632FACE8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2064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 atom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H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65EC-C825-45B6-AEBE-1A83A3E738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981000"/>
            <a:ext cx="8229600" cy="48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O molecu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One mole of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6.022 x 10</a:t>
            </a:r>
            <a:r>
              <a:rPr b="0" lang="en-GB" sz="4000" spc="-1" strike="noStrike" baseline="30000">
                <a:solidFill>
                  <a:srgbClr val="2009a7"/>
                </a:solidFill>
                <a:latin typeface="Comic Sans MS"/>
              </a:rPr>
              <a:t>23</a:t>
            </a:r>
            <a:r>
              <a:rPr b="0" lang="ar-SA" sz="4000" spc="-1" strike="noStrike" baseline="30000">
                <a:solidFill>
                  <a:srgbClr val="2009a7"/>
                </a:solidFill>
                <a:latin typeface="Comic Sans MS"/>
              </a:rPr>
              <a:t>  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CH</a:t>
            </a:r>
            <a:r>
              <a:rPr b="0" lang="en-GB" sz="4000" spc="-1" strike="noStrike" baseline="-25000">
                <a:solidFill>
                  <a:srgbClr val="2009a7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2009a7"/>
                </a:solidFill>
                <a:latin typeface="Comic Sans MS"/>
              </a:rPr>
              <a:t> 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968D-8C12-40A2-9715-472B122F47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Example 3.6 p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2997360"/>
            <a:ext cx="8820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(1 x 12 .01) + (4 x 1.008) = 16.04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16.04 amu = 16.04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1 mole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6.04 g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? mo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7 g of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6280"/>
            <a:ext cx="8496360" cy="1081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Atomic mass (in amu) = Molar Mass (g/m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Molecular Mass (in amu) = Molar Mass (g/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84360" y="5805360"/>
                <a:ext cx="763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1980-791A-47E7-909C-90DB319668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620640"/>
            <a:ext cx="7686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oles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are present in 6.07 g of C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700280"/>
                <a:ext cx="7920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23D1-9E87-4FF4-9883-704A91DAE3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353F-1982-4C9B-8D94-81C8BDDCA7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404640"/>
            <a:ext cx="8675640" cy="72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lecular mass of 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(2 x 12.01) + (6 x 1.008) = 30.068 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mass (amu) = Molar mass (g/mol) = 30.068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0.068 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334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.011 mole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 molecules of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71640" y="3213000"/>
                <a:ext cx="7704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umber of moles of 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e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8 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5300640"/>
                <a:ext cx="86040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ber of molecules of 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ol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342B-13A3-48E4-B827-8B8EC7496C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3.1 Atomic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ss of an atom = mass of p + mass of n + mass of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ss of p =mass of n = 1840 mass of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Mass of atom = mass of p + mass of 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(or atomic weight)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of the atom in atomic mass unit (am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tomic mass uni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mass that exactly equal to one-twelfth the mass of one carbon-12 (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)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C89A-CE27-499A-A9C0-489E0FFEB6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-36360" y="476280"/>
          <a:ext cx="8640360" cy="2190240"/>
        </p:xfrm>
        <a:graphic>
          <a:graphicData uri="http://schemas.openxmlformats.org/drawingml/2006/table">
            <a:tbl>
              <a:tblPr/>
              <a:tblGrid>
                <a:gridCol w="664560"/>
                <a:gridCol w="665280"/>
                <a:gridCol w="7310520"/>
              </a:tblGrid>
              <a:tr h="8326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ow many molecules of ethane (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are present in 0.334 g of C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6.69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9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.89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Symbo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55640" y="2924280"/>
                <a:ext cx="74818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4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55640" y="4292640"/>
                <a:ext cx="6697800" cy="23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369E-D21E-4BCF-AAC6-A833B8725C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3.7 p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How many hydrogen atoms are present in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25.6 g of urea [(NH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)</a:t>
            </a:r>
            <a:r>
              <a:rPr b="0" lang="en-GB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]. The molar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mass of urea is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0.06 g/m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9080" y="1830240"/>
                <a:ext cx="8604000" cy="498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 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/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7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molecule 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H atom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7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molecules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?H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 of H atoms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 atomx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67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ecule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tom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FA395-543B-46CE-AE8D-C5AF0A3DB5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7A16-69A1-433B-AC3F-10B1BFA098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549360"/>
            <a:ext cx="72723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ic mass of Cu = 63.55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ar mass of Cu = 63.55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 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3.55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.022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u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g of Cu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Cu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3520" y="5013360"/>
                <a:ext cx="77914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 of Cu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atom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g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2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to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5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6AA9-8F08-4739-85FA-035F00F8E0E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539640" y="54936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H.W.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What is the mass, in grams, of one copper atom?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.055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)   63.55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)  1.6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  9.47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8120" y="3706920"/>
                <a:ext cx="7608960" cy="29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om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22x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atoms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/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983280" y="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Arial"/>
              </a:rPr>
              <a:t>حل مختص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E468-3E0B-4578-8335-93D807F503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08520" y="289548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صيغة الجزي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2EA8-7D4A-4D50-8887-1B891C6B1E7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5 Percent Composition of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cent Composition by Mas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percent by mass of each element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percent composition of an element in a compoun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88240" y="4589640"/>
            <a:ext cx="5722560" cy="937800"/>
            <a:chOff x="1488240" y="4589640"/>
            <a:chExt cx="5722560" cy="937800"/>
          </a:xfrm>
        </p:grpSpPr>
        <p:sp>
          <p:nvSpPr>
            <p:cNvPr id="223" name=""/>
            <p:cNvSpPr/>
            <p:nvPr/>
          </p:nvSpPr>
          <p:spPr>
            <a:xfrm>
              <a:off x="1488240" y="4589640"/>
              <a:ext cx="462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el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3000" y="5006880"/>
              <a:ext cx="44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ar mass of comp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3480" y="5075280"/>
              <a:ext cx="4267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9280" y="4778280"/>
              <a:ext cx="136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5734080"/>
            <a:ext cx="836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number of moles of the element 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 mo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4581360"/>
            <a:ext cx="6192720" cy="936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4C93-29EF-4A8F-9CAF-64BA9C580A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47600" y="620640"/>
            <a:ext cx="3200400" cy="2568960"/>
            <a:chOff x="147600" y="620640"/>
            <a:chExt cx="3200400" cy="256896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47600" y="620640"/>
              <a:ext cx="3200400" cy="20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56680" y="2610000"/>
              <a:ext cx="1194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1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1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061720" y="3367080"/>
            <a:ext cx="5258520" cy="828000"/>
            <a:chOff x="2061720" y="3367080"/>
            <a:chExt cx="5258520" cy="828000"/>
          </a:xfrm>
        </p:grpSpPr>
        <p:sp>
          <p:nvSpPr>
            <p:cNvPr id="233" name=""/>
            <p:cNvSpPr/>
            <p:nvPr/>
          </p:nvSpPr>
          <p:spPr>
            <a:xfrm>
              <a:off x="2061720" y="3544920"/>
              <a:ext cx="87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C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1120" y="336708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2.01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480" y="373536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62080" y="354492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52.1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95560" y="379260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69640" y="4116240"/>
            <a:ext cx="5226120" cy="828000"/>
            <a:chOff x="2069640" y="4116240"/>
            <a:chExt cx="5226120" cy="828000"/>
          </a:xfrm>
        </p:grpSpPr>
        <p:sp>
          <p:nvSpPr>
            <p:cNvPr id="239" name=""/>
            <p:cNvSpPr/>
            <p:nvPr/>
          </p:nvSpPr>
          <p:spPr>
            <a:xfrm>
              <a:off x="2069640" y="4294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H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55960" y="411624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.008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448452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7600" y="429408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13.1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95560" y="454176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68200" y="4878360"/>
            <a:ext cx="5276520" cy="828000"/>
            <a:chOff x="2068200" y="4878360"/>
            <a:chExt cx="5276520" cy="828000"/>
          </a:xfrm>
        </p:grpSpPr>
        <p:sp>
          <p:nvSpPr>
            <p:cNvPr id="245" name=""/>
            <p:cNvSpPr/>
            <p:nvPr/>
          </p:nvSpPr>
          <p:spPr>
            <a:xfrm>
              <a:off x="2068200" y="505620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%O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1120" y="4878360"/>
              <a:ext cx="19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x (16.00 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82480" y="524664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6.07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86560" y="5056200"/>
              <a:ext cx="25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100% = 34.7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95560" y="5303880"/>
              <a:ext cx="17524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959480" y="578016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2.14% + 13.13% + 34.73% = 100.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740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Check the answ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19640" y="620640"/>
            <a:ext cx="565308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Molar mass of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 = Molecular mass C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1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(2 x 12.01) + (6 x 1.008) + (1 x16.00) = 46.07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009a7"/>
                </a:solidFill>
                <a:latin typeface="Comic Sans MS"/>
              </a:rPr>
              <a:t>Molar mass of C = Atomic mass of C = 12.01 g 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Comic Sans MS"/>
              </a:rPr>
              <a:t>Molar mass of H = Atomic mass of H = 1.008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Comic Sans MS"/>
              </a:rPr>
              <a:t>Molar mass of O = Atomic mass of O = 16.00 g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1D8F-918B-469F-9CBD-3DD81AEEB3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8 p8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alculate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of H, P, and O in H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O</a:t>
            </a:r>
            <a:r>
              <a:rPr b="0" lang="en-US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2349360"/>
            <a:ext cx="8424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ar mass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97.9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3500280"/>
                <a:ext cx="4537080" cy="28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076720" y="5529240"/>
            <a:ext cx="40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 the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08% + 31.61% + 65.31% = 10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2AFF-53D7-45DB-80CD-ABF4A35007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tent Placeholder 4"/>
          <p:cNvSpPr/>
          <p:nvPr/>
        </p:nvSpPr>
        <p:spPr>
          <a:xfrm>
            <a:off x="453960" y="620640"/>
            <a:ext cx="843912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lculate the percent of nitrogen in Ca(NO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01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7.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-38160" y="2967120"/>
          <a:ext cx="8077320" cy="2921040"/>
        </p:xfrm>
        <a:graphic>
          <a:graphicData uri="http://schemas.openxmlformats.org/drawingml/2006/table">
            <a:tbl>
              <a:tblPr/>
              <a:tblGrid>
                <a:gridCol w="533520"/>
                <a:gridCol w="709560"/>
                <a:gridCol w="6834240"/>
              </a:tblGrid>
              <a:tr h="1463400"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7d"/>
                          </a:solidFill>
                          <a:uFillTx/>
                          <a:latin typeface="Comic Sans MS"/>
                          <a:ea typeface="Times New Roman"/>
                        </a:rPr>
                        <a:t>H.W.</a:t>
                      </a:r>
                      <a:r>
                        <a:rPr b="0" lang="en-GB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All of the substances listed below are fertilizers that contribute nitrogen to the soil</a:t>
                      </a: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  <a:ea typeface="Times New Roman"/>
                        </a:rPr>
                        <a:t>Which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 of these is the richest source of nitrogen on a mass percentage basis</a:t>
                      </a:r>
                      <a:r>
                        <a:rPr b="1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rea, 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mmonium nitrate, 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uanidine, HNC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Ammonia, NH</a:t>
                      </a:r>
                      <a:r>
                        <a:rPr b="0" lang="en-US" sz="2400" spc="-1" strike="noStrike" baseline="-25000">
                          <a:solidFill>
                            <a:srgbClr val="9900cc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5877000"/>
            <a:ext cx="5977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ايا من هذه المواد هواغنى مصدر للنيتروجين على اساس احتوائه على اكبر نسبه وزنيه من النيتروجين؟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88000" y="5137200"/>
            <a:ext cx="2305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46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71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%N = 8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D659-6B78-4060-B61A-F40B914DFB7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e atomic mass of </a:t>
            </a:r>
            <a:r>
              <a:rPr b="1" lang="en-GB" sz="3200" spc="-1" strike="noStrike" baseline="30000">
                <a:solidFill>
                  <a:srgbClr val="ff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C = 12.00 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baseline="30000">
                <a:solidFill>
                  <a:srgbClr val="9999ff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9999ff"/>
                </a:solidFill>
                <a:latin typeface="Comic Sans MS"/>
              </a:rPr>
              <a:t>C is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.g. Hydrogen atom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is only 8.4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ssive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us: the atomic mass of </a:t>
            </a:r>
            <a:r>
              <a:rPr b="1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 = 0.084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2.0 amu= 1.008 amu and so o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1FE6-B1DB-42C6-9B91-1BD1D2B0E5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280" y="1557360"/>
            <a:ext cx="8686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Example: Determine the empirical formula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compound that has the following percent compositio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mass: K 24.75, Mn 34.77, O 40.51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3141720"/>
            <a:ext cx="727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vert to grams &amp; divide by the molar ma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umber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24.75g of 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4.77g of M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40.51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627280" y="5084640"/>
                <a:ext cx="2741760" cy="17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  <m:r>
                          <m:rPr>
                            <m:lit/>
                            <m:nor/>
                          </m:rPr>
                          <m:t xml:space="preserve"> mol of K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mol of M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5406-4A14-4209-A991-D99E9BBEAA6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Divide by the smallest number of moles: 0.632 mo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 ratio of th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All are integer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the compoun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KMnO</a:t>
            </a:r>
            <a:r>
              <a:rPr b="0" lang="en-GB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55640" y="1506600"/>
                <a:ext cx="7711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6A15-8D98-4FE8-BC16-5F9434C8F2D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5280" y="120600"/>
            <a:ext cx="8004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Percent Composition and Empir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  <a:ea typeface="Times New Roman"/>
              </a:rPr>
              <a:t>Q: Determine the empirical formula of a compound that has the following percent composition by mass: K 24.75, Mn 34.77, O 40.51 perc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92200" y="1484280"/>
          <a:ext cx="7364520" cy="2689200"/>
        </p:xfrm>
        <a:graphic>
          <a:graphicData uri="http://schemas.openxmlformats.org/drawingml/2006/table">
            <a:tbl>
              <a:tblPr/>
              <a:tblGrid>
                <a:gridCol w="286380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4.75/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0.633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4.77/54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0.6329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51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2.532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3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6329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532/0.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n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Mn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623880" y="4403880"/>
            <a:ext cx="7620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كما في المثال الساب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6508800"/>
            <a:ext cx="3743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Courtesy of Dr. Fawzia Albel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682E-CC91-4E5E-BB61-793E9724E86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Empirical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2280" y="1557000"/>
            <a:ext cx="8686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27720" y="2924280"/>
            <a:ext cx="1916280" cy="3933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314172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40.92g of C, 4.58g of H, &amp; 54.50g of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26920" y="4216320"/>
                <a:ext cx="3745080" cy="25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  <m:r>
                          <m:rPr>
                            <m:lit/>
                            <m:nor/>
                          </m:rPr>
                          <m:t xml:space="preserve"> mol of C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of H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7308720" y="35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308720" y="4653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57992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3D05-7B84-4F1D-ABDB-D111AF4F60C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Not all numbers ar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Convert 1.33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il-and error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2 = 2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33 x 3 = 3.99 ≈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K. multiply all the numbers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= 3             H =4         O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 the Empirical Formula of ascorbic aci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971640" y="620640"/>
                <a:ext cx="7921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O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72CD-9010-43D1-A516-C83F6225F3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3920" y="313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39640" y="1484280"/>
          <a:ext cx="7004160" cy="3268800"/>
        </p:xfrm>
        <a:graphic>
          <a:graphicData uri="http://schemas.openxmlformats.org/drawingml/2006/table">
            <a:tbl>
              <a:tblPr/>
              <a:tblGrid>
                <a:gridCol w="2503440"/>
                <a:gridCol w="1459080"/>
                <a:gridCol w="1582560"/>
                <a:gridCol w="145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0.92/12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.407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58/1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4.54.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4.50/1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406 m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7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4.54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406/3.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Convert into integer x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99 =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lang="en-US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1055520" y="4566240"/>
            <a:ext cx="76201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Comic Sans MS"/>
                <a:cs typeface="Times New Roman"/>
              </a:rPr>
              <a:t>خطوات الح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نشأ جدول نضع فيه العناصر المذكورة في السؤا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عتبر أن النسبة المئوية معبر عنها بالجرام فلو كان عندنا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ن المركب فهذه ال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0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جرام موزعة على العناصر حسب نسبته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وجد عدد المولات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لكل عنصر باستخدام القانون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=m/M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نقسم عدد المولات على أصغر مول من العناص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الأرقام التي نحصل عليها تمث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irical formul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بشرط أن تكون أعداد صحيح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في حالة ظهور أعداد عشرية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ما في المثال السابق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نقوم بضرب الأرقام التي في الأسفل الموجودة في الصيغة بأعداد بدأ من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، 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.... حتى نحصل على أعداد صحيحة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2280" y="333360"/>
            <a:ext cx="8686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 3.9 p9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scorbic acid composed of 40.92% C, 4.58% H, and 54.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 by mass. Determine its empirical form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B70F-9786-45E1-A6EA-C208FBAA477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Determination of the Molecular Formula from the Percent Composition by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3.11 p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sample compound contains 1.52g of N and 3.47g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. The molar mass of this compound is between 9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d 95g. Determine the molecular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3141720"/>
            <a:ext cx="69134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us the empirical formula is: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84360" y="3645000"/>
                <a:ext cx="3456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rPr>
                            <m:lit/>
                            <m:nor/>
                          </m:rPr>
                          <m:t xml:space="preserve"> mol of N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rPr>
                            <m:lit/>
                            <m:nor/>
                          </m:rPr>
                          <m:t xml:space="preserve"> mol of 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84360" y="5445000"/>
                <a:ext cx="5832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                          </m:t>
                    </m:r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588000" y="3213000"/>
            <a:ext cx="2484720" cy="2960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mposition by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lecular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DE73-0C99-41AF-B5F9-D99ED6E316F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. The molar mass of the empirical formula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14.01 + (2x16.00) = 46.0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. The ratio between the empirical formula and the molecular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6. The molecular formula is (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160" y="3343320"/>
                <a:ext cx="50828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 mass of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 molar 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435640" y="3284640"/>
                <a:ext cx="2952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7740720" y="3278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B3FF8-74E7-4EED-934C-5F67CA2A172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tent Placeholder 4"/>
          <p:cNvSpPr/>
          <p:nvPr/>
        </p:nvSpPr>
        <p:spPr>
          <a:xfrm>
            <a:off x="468360" y="549360"/>
            <a:ext cx="829476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Which of the following is an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4600" y="2971800"/>
            <a:ext cx="85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sample of acid compound contains 40.1 percent of C, 6.6 percent of H, and 53.3 percent of O. The molar mass of this compound is 60 g/mol . What is the molecular formula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24000" y="46116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8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2520" indent="-3430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052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يا منهم لايمكن تبسيطه اكثر مما هو عليه؟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E59A-6BFB-42B6-B1C2-033C49B1A46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7 Chemical Reactions and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1700280"/>
            <a:ext cx="642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Reac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process in which one or more substances is changed into one or more new substa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42688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Equ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s chemical symbols to show what happens during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93920" y="6005520"/>
            <a:ext cx="4300560" cy="520560"/>
            <a:chOff x="2293920" y="6005520"/>
            <a:chExt cx="4300560" cy="520560"/>
          </a:xfrm>
        </p:grpSpPr>
        <p:sp>
          <p:nvSpPr>
            <p:cNvPr id="318" name=""/>
            <p:cNvSpPr/>
            <p:nvPr/>
          </p:nvSpPr>
          <p:spPr>
            <a:xfrm>
              <a:off x="2293920" y="60055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4960" y="6257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7680" y="600552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rcRect l="2012" t="1995" r="0" b="0"/>
          <a:stretch/>
        </p:blipFill>
        <p:spPr>
          <a:xfrm>
            <a:off x="6823080" y="476280"/>
            <a:ext cx="214164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E53B-9CD0-4AD6-BB27-CD080BB8C23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B0EF2-CF49-4966-9F6B-10DCF6A6F3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863640" y="4548240"/>
            <a:ext cx="7885080" cy="21938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692280"/>
            <a:ext cx="8712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ways of representing the reac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orm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42508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8137800" cy="62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4323-32F2-49EF-B8DE-44B3A483AEE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76360" y="404640"/>
            <a:ext cx="8567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How to “Read” Chemical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2734560" y="1614600"/>
            <a:ext cx="384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g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2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513320" y="191124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-324000" y="2535120"/>
            <a:ext cx="92520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atoms Mg + 1 molecule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s 2 formula units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moles Mg + 1 mol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2 moles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48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Mg +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32.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m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ake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80.6</a:t>
            </a: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77920" y="4797360"/>
            <a:ext cx="694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 grams Mg + 1 gram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makes 2 g M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56720" y="443700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a50021"/>
                </a:solidFill>
                <a:latin typeface="Arial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31280" y="360360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315280" y="292428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227664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051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olar m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2720" y="1557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Comic Sans MS"/>
              </a:rPr>
              <a:t>Read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B0C18-5314-4960-A42A-2402CF40FC8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3"/>
          <p:cNvSpPr/>
          <p:nvPr/>
        </p:nvSpPr>
        <p:spPr>
          <a:xfrm>
            <a:off x="212760" y="120816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Balancing Chemical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3059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نكتب </a:t>
            </a:r>
            <a:r>
              <a:rPr b="0" lang="ar-SA" sz="2800" spc="-1" strike="noStrike" u="sng">
                <a:solidFill>
                  <a:srgbClr val="9900cc"/>
                </a:solidFill>
                <a:uFillTx/>
                <a:latin typeface="Arial"/>
              </a:rPr>
              <a:t>الصيغه الصحيحه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لكل متفاعل (على الطرف الايسر) ولكل ناتج (على الطرف الاي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6528-779F-4E4C-81A9-F289D89DF47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8"/>
          <p:cNvSpPr/>
          <p:nvPr/>
        </p:nvSpPr>
        <p:spPr>
          <a:xfrm>
            <a:off x="343080" y="476280"/>
            <a:ext cx="85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numbers in front of the formulas (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o make the number of atoms of each element the same on both sides of the equation.  Do not change the subscrip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4"/>
          <p:cNvGrpSpPr/>
          <p:nvPr/>
        </p:nvGrpSpPr>
        <p:grpSpPr>
          <a:xfrm>
            <a:off x="2626200" y="2395440"/>
            <a:ext cx="3627360" cy="680400"/>
            <a:chOff x="2626200" y="2395440"/>
            <a:chExt cx="3627360" cy="680400"/>
          </a:xfrm>
        </p:grpSpPr>
        <p:sp>
          <p:nvSpPr>
            <p:cNvPr id="342" name="Text Box 9"/>
            <p:cNvSpPr/>
            <p:nvPr/>
          </p:nvSpPr>
          <p:spPr>
            <a:xfrm>
              <a:off x="2626200" y="2427120"/>
              <a:ext cx="124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2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3905640" y="2395440"/>
              <a:ext cx="9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5111280" y="2427120"/>
              <a:ext cx="114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C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4</a:t>
              </a:r>
              <a:r>
                <a:rPr b="0" lang="en-US" sz="3200" spc="-1" strike="noStrike">
                  <a:solidFill>
                    <a:srgbClr val="003300"/>
                  </a:solidFill>
                  <a:latin typeface="Comic Sans MS"/>
                </a:rPr>
                <a:t>H</a:t>
              </a:r>
              <a:r>
                <a:rPr b="0" lang="en-US" sz="3200" spc="-1" strike="noStrike" baseline="-25000">
                  <a:solidFill>
                    <a:srgbClr val="0033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68360" y="321300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وزن المعادله الكيميائيه يكون بتغير  الارقام التي بجانب الصيغه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Arial"/>
              </a:rPr>
              <a:t>وليست التي تحتها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 بحيث يكون للعنصر نفس العدد على طرفي المعادله</a:t>
            </a:r>
            <a:r>
              <a:rPr b="0" lang="ar-SA" sz="32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C3B7-9BDE-4E7D-B6EB-ACB34633B9E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3"/>
          <p:cNvSpPr/>
          <p:nvPr/>
        </p:nvSpPr>
        <p:spPr>
          <a:xfrm>
            <a:off x="212760" y="692280"/>
            <a:ext cx="855036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by balancing those elements that appear in only one reactant and on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1628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توزن اولا العناصر الاقل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79640" y="3363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00cc"/>
                </a:solidFill>
                <a:uFillTx/>
                <a:latin typeface="Arial"/>
              </a:rPr>
              <a:t>ثم توزن العناصر الاكثر ظهو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250920" y="4221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4000" y="551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cc"/>
                </a:solidFill>
                <a:latin typeface="Arial"/>
              </a:rPr>
              <a:t>الخطوه الاخيره هي التأكد من ان لديك نفس العدد من الذرات لكل عنصر على طرفي المعاد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52252-A80A-40B3-AC56-D3867A2A13D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Nitrogen monoxide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reacts with oxygen to form nitrogen dioxide 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476360" y="4437000"/>
                <a:ext cx="5400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2ECD-9A17-4A0E-85BB-295AC20C253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994280" y="17733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N 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24"/>
          <p:cNvGrpSpPr/>
          <p:nvPr/>
        </p:nvGrpSpPr>
        <p:grpSpPr>
          <a:xfrm>
            <a:off x="271800" y="2276280"/>
            <a:ext cx="1671120" cy="1359000"/>
            <a:chOff x="271800" y="2276280"/>
            <a:chExt cx="1671120" cy="1359000"/>
          </a:xfrm>
        </p:grpSpPr>
        <p:sp>
          <p:nvSpPr>
            <p:cNvPr id="359" name="Line 17"/>
            <p:cNvSpPr/>
            <p:nvPr/>
          </p:nvSpPr>
          <p:spPr>
            <a:xfrm flipV="1">
              <a:off x="110484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2718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5"/>
          <p:cNvGrpSpPr/>
          <p:nvPr/>
        </p:nvGrpSpPr>
        <p:grpSpPr>
          <a:xfrm>
            <a:off x="3054600" y="2276280"/>
            <a:ext cx="1671120" cy="1359000"/>
            <a:chOff x="3054600" y="2276280"/>
            <a:chExt cx="1671120" cy="1359000"/>
          </a:xfrm>
        </p:grpSpPr>
        <p:sp>
          <p:nvSpPr>
            <p:cNvPr id="362" name="Line 21"/>
            <p:cNvSpPr/>
            <p:nvPr/>
          </p:nvSpPr>
          <p:spPr>
            <a:xfrm flipV="1">
              <a:off x="388908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3054600" y="2809800"/>
              <a:ext cx="167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755640" y="162864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Text Box 15"/>
          <p:cNvSpPr/>
          <p:nvPr/>
        </p:nvSpPr>
        <p:spPr>
          <a:xfrm>
            <a:off x="5485320" y="2997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85C8-F4C2-4B72-809E-557C8CC75A4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30"/>
          <p:cNvGrpSpPr/>
          <p:nvPr/>
        </p:nvGrpSpPr>
        <p:grpSpPr>
          <a:xfrm>
            <a:off x="1260000" y="2276280"/>
            <a:ext cx="1483920" cy="1359000"/>
            <a:chOff x="1260000" y="2276280"/>
            <a:chExt cx="1483920" cy="1359000"/>
          </a:xfrm>
        </p:grpSpPr>
        <p:sp>
          <p:nvSpPr>
            <p:cNvPr id="367" name="Line 31"/>
            <p:cNvSpPr/>
            <p:nvPr/>
          </p:nvSpPr>
          <p:spPr>
            <a:xfrm flipV="1">
              <a:off x="1998360" y="227628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2"/>
            <p:cNvSpPr/>
            <p:nvPr/>
          </p:nvSpPr>
          <p:spPr>
            <a:xfrm>
              <a:off x="1260000" y="280980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3"/>
          <p:cNvGrpSpPr/>
          <p:nvPr/>
        </p:nvGrpSpPr>
        <p:grpSpPr>
          <a:xfrm>
            <a:off x="3490200" y="2205000"/>
            <a:ext cx="1483920" cy="1359000"/>
            <a:chOff x="3490200" y="2205000"/>
            <a:chExt cx="1483920" cy="1359000"/>
          </a:xfrm>
        </p:grpSpPr>
        <p:sp>
          <p:nvSpPr>
            <p:cNvPr id="370" name="Line 34"/>
            <p:cNvSpPr/>
            <p:nvPr/>
          </p:nvSpPr>
          <p:spPr>
            <a:xfrm flipV="1">
              <a:off x="4230360" y="22050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35"/>
            <p:cNvSpPr/>
            <p:nvPr/>
          </p:nvSpPr>
          <p:spPr>
            <a:xfrm>
              <a:off x="3490200" y="273852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5364000" y="2205000"/>
            <a:ext cx="3311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NO by 2 and N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5640" y="1557360"/>
                <a:ext cx="3960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84360" y="3689280"/>
                <a:ext cx="45338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5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0"/>
          <p:cNvGrpSpPr/>
          <p:nvPr/>
        </p:nvGrpSpPr>
        <p:grpSpPr>
          <a:xfrm>
            <a:off x="75960" y="4581360"/>
            <a:ext cx="3624840" cy="1359000"/>
            <a:chOff x="75960" y="4581360"/>
            <a:chExt cx="3624840" cy="1359000"/>
          </a:xfrm>
        </p:grpSpPr>
        <p:sp>
          <p:nvSpPr>
            <p:cNvPr id="377" name="Line 31"/>
            <p:cNvSpPr/>
            <p:nvPr/>
          </p:nvSpPr>
          <p:spPr>
            <a:xfrm flipV="1">
              <a:off x="1876320" y="45813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32"/>
            <p:cNvSpPr/>
            <p:nvPr/>
          </p:nvSpPr>
          <p:spPr>
            <a:xfrm>
              <a:off x="75960" y="5114880"/>
              <a:ext cx="36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 + 2 oxygen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0"/>
          <p:cNvGrpSpPr/>
          <p:nvPr/>
        </p:nvGrpSpPr>
        <p:grpSpPr>
          <a:xfrm>
            <a:off x="3800880" y="4737240"/>
            <a:ext cx="2483640" cy="1359000"/>
            <a:chOff x="3800880" y="4737240"/>
            <a:chExt cx="2483640" cy="1359000"/>
          </a:xfrm>
        </p:grpSpPr>
        <p:sp>
          <p:nvSpPr>
            <p:cNvPr id="380" name="Line 31"/>
            <p:cNvSpPr/>
            <p:nvPr/>
          </p:nvSpPr>
          <p:spPr>
            <a:xfrm flipV="1">
              <a:off x="5033880" y="473724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2"/>
            <p:cNvSpPr/>
            <p:nvPr/>
          </p:nvSpPr>
          <p:spPr>
            <a:xfrm>
              <a:off x="3800880" y="5270760"/>
              <a:ext cx="248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x 2 = 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442920" y="508464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is balanc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697E-BF34-4D10-AD65-59C76FC197C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4"/>
          <p:cNvGrpSpPr/>
          <p:nvPr/>
        </p:nvGrpSpPr>
        <p:grpSpPr>
          <a:xfrm>
            <a:off x="408600" y="2125800"/>
            <a:ext cx="3875760" cy="511560"/>
            <a:chOff x="408600" y="2125800"/>
            <a:chExt cx="3875760" cy="511560"/>
          </a:xfrm>
        </p:grpSpPr>
        <p:sp>
          <p:nvSpPr>
            <p:cNvPr id="385" name="Text Box 35"/>
            <p:cNvSpPr/>
            <p:nvPr/>
          </p:nvSpPr>
          <p:spPr>
            <a:xfrm>
              <a:off x="408600" y="2125800"/>
              <a:ext cx="149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7"/>
            <p:cNvSpPr/>
            <p:nvPr/>
          </p:nvSpPr>
          <p:spPr>
            <a:xfrm>
              <a:off x="3281040" y="2127240"/>
              <a:ext cx="1003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N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48"/>
          <p:cNvGrpSpPr/>
          <p:nvPr/>
        </p:nvGrpSpPr>
        <p:grpSpPr>
          <a:xfrm>
            <a:off x="5252040" y="3843360"/>
            <a:ext cx="3644640" cy="1789200"/>
            <a:chOff x="5252040" y="3843360"/>
            <a:chExt cx="3644640" cy="1789200"/>
          </a:xfrm>
        </p:grpSpPr>
        <p:sp>
          <p:nvSpPr>
            <p:cNvPr id="389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"/>
            <p:cNvSpPr/>
            <p:nvPr/>
          </p:nvSpPr>
          <p:spPr>
            <a:xfrm>
              <a:off x="569088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"/>
            <p:cNvSpPr/>
            <p:nvPr/>
          </p:nvSpPr>
          <p:spPr>
            <a:xfrm>
              <a:off x="551808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3"/>
            <p:cNvSpPr/>
            <p:nvPr/>
          </p:nvSpPr>
          <p:spPr>
            <a:xfrm>
              <a:off x="5486400" y="51753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4"/>
            <p:cNvSpPr/>
            <p:nvPr/>
          </p:nvSpPr>
          <p:spPr>
            <a:xfrm>
              <a:off x="7894440" y="433692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5"/>
            <p:cNvSpPr/>
            <p:nvPr/>
          </p:nvSpPr>
          <p:spPr>
            <a:xfrm>
              <a:off x="7721640" y="47563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7689960" y="5175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52"/>
          <p:cNvGrpSpPr/>
          <p:nvPr/>
        </p:nvGrpSpPr>
        <p:grpSpPr>
          <a:xfrm>
            <a:off x="383400" y="2622600"/>
            <a:ext cx="3592800" cy="459720"/>
            <a:chOff x="383400" y="2622600"/>
            <a:chExt cx="3592800" cy="459720"/>
          </a:xfrm>
        </p:grpSpPr>
        <p:sp>
          <p:nvSpPr>
            <p:cNvPr id="400" name="Text Box 50"/>
            <p:cNvSpPr/>
            <p:nvPr/>
          </p:nvSpPr>
          <p:spPr>
            <a:xfrm>
              <a:off x="383400" y="262260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51"/>
            <p:cNvSpPr/>
            <p:nvPr/>
          </p:nvSpPr>
          <p:spPr>
            <a:xfrm>
              <a:off x="3310920" y="262260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5"/>
          <p:cNvGrpSpPr/>
          <p:nvPr/>
        </p:nvGrpSpPr>
        <p:grpSpPr>
          <a:xfrm>
            <a:off x="346680" y="3098880"/>
            <a:ext cx="4675680" cy="459720"/>
            <a:chOff x="346680" y="3098880"/>
            <a:chExt cx="4675680" cy="459720"/>
          </a:xfrm>
        </p:grpSpPr>
        <p:sp>
          <p:nvSpPr>
            <p:cNvPr id="403" name="Text Box 53"/>
            <p:cNvSpPr/>
            <p:nvPr/>
          </p:nvSpPr>
          <p:spPr>
            <a:xfrm>
              <a:off x="346680" y="3098880"/>
              <a:ext cx="200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 + 2 O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4"/>
            <p:cNvSpPr/>
            <p:nvPr/>
          </p:nvSpPr>
          <p:spPr>
            <a:xfrm>
              <a:off x="3421440" y="3098880"/>
              <a:ext cx="160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4945-FFBE-4AAC-814C-E651250F38B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0788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24000" y="242100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reactant/s on the left side and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r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mula/s for the product/s on the right side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2257920" y="4348080"/>
            <a:ext cx="4365000" cy="581400"/>
            <a:chOff x="2257920" y="4348080"/>
            <a:chExt cx="4365000" cy="581400"/>
          </a:xfrm>
        </p:grpSpPr>
        <p:sp>
          <p:nvSpPr>
            <p:cNvPr id="408" name="Text Box 5"/>
            <p:cNvSpPr/>
            <p:nvPr/>
          </p:nvSpPr>
          <p:spPr>
            <a:xfrm>
              <a:off x="2257920" y="4348080"/>
              <a:ext cx="1686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6"/>
            <p:cNvSpPr/>
            <p:nvPr/>
          </p:nvSpPr>
          <p:spPr>
            <a:xfrm>
              <a:off x="3867120" y="4576680"/>
              <a:ext cx="761760" cy="0"/>
            </a:xfrm>
            <a:prstGeom prst="line">
              <a:avLst/>
            </a:prstGeom>
            <a:ln w="38160">
              <a:solidFill>
                <a:srgbClr val="0000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7"/>
            <p:cNvSpPr/>
            <p:nvPr/>
          </p:nvSpPr>
          <p:spPr>
            <a:xfrm>
              <a:off x="4776480" y="4349880"/>
              <a:ext cx="184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8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8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4"/>
          <p:cNvSpPr/>
          <p:nvPr/>
        </p:nvSpPr>
        <p:spPr>
          <a:xfrm>
            <a:off x="324000" y="9381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thane reacts with oxygen to form carbon dioxide and water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balance this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8CDA-7C74-465D-8ADF-8173D9D28C3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Average Atomic 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ic mass of carbon = 12.01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2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rbon exist in more than one form (isotopes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bon is a mixture of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Atomic Mass = Average Atomic M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128600"/>
            <a:ext cx="1944720" cy="30492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24360" y="1052640"/>
            <a:ext cx="2955960" cy="31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59640" y="1773360"/>
            <a:ext cx="248436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atural Abu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بيع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وف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16BA-7C36-411E-BA26-624BC1211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281160" y="51912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tart by balancing those elements that appear in only one reactant and one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"/>
          <p:cNvGrpSpPr/>
          <p:nvPr/>
        </p:nvGrpSpPr>
        <p:grpSpPr>
          <a:xfrm>
            <a:off x="486000" y="1596960"/>
            <a:ext cx="4128120" cy="511920"/>
            <a:chOff x="486000" y="1596960"/>
            <a:chExt cx="4128120" cy="511920"/>
          </a:xfrm>
        </p:grpSpPr>
        <p:sp>
          <p:nvSpPr>
            <p:cNvPr id="414" name="Text Box 6"/>
            <p:cNvSpPr/>
            <p:nvPr/>
          </p:nvSpPr>
          <p:spPr>
            <a:xfrm>
              <a:off x="486000" y="15969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"/>
            <p:cNvSpPr/>
            <p:nvPr/>
          </p:nvSpPr>
          <p:spPr>
            <a:xfrm>
              <a:off x="2106720" y="18255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8"/>
            <p:cNvSpPr/>
            <p:nvPr/>
          </p:nvSpPr>
          <p:spPr>
            <a:xfrm>
              <a:off x="3007440" y="1598760"/>
              <a:ext cx="160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15"/>
          <p:cNvSpPr/>
          <p:nvPr/>
        </p:nvSpPr>
        <p:spPr>
          <a:xfrm>
            <a:off x="4822920" y="159696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tart with C or H but not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24"/>
          <p:cNvGrpSpPr/>
          <p:nvPr/>
        </p:nvGrpSpPr>
        <p:grpSpPr>
          <a:xfrm>
            <a:off x="99360" y="2054160"/>
            <a:ext cx="1438200" cy="1359000"/>
            <a:chOff x="99360" y="2054160"/>
            <a:chExt cx="1438200" cy="1359000"/>
          </a:xfrm>
        </p:grpSpPr>
        <p:sp>
          <p:nvSpPr>
            <p:cNvPr id="419" name="Line 17"/>
            <p:cNvSpPr/>
            <p:nvPr/>
          </p:nvSpPr>
          <p:spPr>
            <a:xfrm flipV="1">
              <a:off x="817560" y="20541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8"/>
            <p:cNvSpPr/>
            <p:nvPr/>
          </p:nvSpPr>
          <p:spPr>
            <a:xfrm>
              <a:off x="99360" y="258768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25"/>
          <p:cNvGrpSpPr/>
          <p:nvPr/>
        </p:nvGrpSpPr>
        <p:grpSpPr>
          <a:xfrm>
            <a:off x="2473560" y="1977840"/>
            <a:ext cx="1438200" cy="1359000"/>
            <a:chOff x="2473560" y="1977840"/>
            <a:chExt cx="1438200" cy="1359000"/>
          </a:xfrm>
        </p:grpSpPr>
        <p:sp>
          <p:nvSpPr>
            <p:cNvPr id="422" name="Line 21"/>
            <p:cNvSpPr/>
            <p:nvPr/>
          </p:nvSpPr>
          <p:spPr>
            <a:xfrm flipV="1">
              <a:off x="3192480" y="1977840"/>
              <a:ext cx="0" cy="45684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2473560" y="2511360"/>
              <a:ext cx="143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Text Box 23"/>
          <p:cNvSpPr/>
          <p:nvPr/>
        </p:nvSpPr>
        <p:spPr>
          <a:xfrm>
            <a:off x="5696280" y="2664000"/>
            <a:ext cx="26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C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6"/>
          <p:cNvGrpSpPr/>
          <p:nvPr/>
        </p:nvGrpSpPr>
        <p:grpSpPr>
          <a:xfrm>
            <a:off x="486000" y="3440160"/>
            <a:ext cx="4307760" cy="511560"/>
            <a:chOff x="486000" y="3440160"/>
            <a:chExt cx="4307760" cy="511560"/>
          </a:xfrm>
        </p:grpSpPr>
        <p:sp>
          <p:nvSpPr>
            <p:cNvPr id="426" name="Text Box 27"/>
            <p:cNvSpPr/>
            <p:nvPr/>
          </p:nvSpPr>
          <p:spPr>
            <a:xfrm>
              <a:off x="486000" y="34401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>
              <a:off x="2106720" y="36684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013560" y="3441600"/>
              <a:ext cx="178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27880" y="3898800"/>
            <a:ext cx="1825200" cy="1359000"/>
            <a:chOff x="227880" y="3898800"/>
            <a:chExt cx="1825200" cy="1359000"/>
          </a:xfrm>
        </p:grpSpPr>
        <p:sp>
          <p:nvSpPr>
            <p:cNvPr id="430" name="Line 31"/>
            <p:cNvSpPr/>
            <p:nvPr/>
          </p:nvSpPr>
          <p:spPr>
            <a:xfrm flipV="1">
              <a:off x="11379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2"/>
            <p:cNvSpPr/>
            <p:nvPr/>
          </p:nvSpPr>
          <p:spPr>
            <a:xfrm>
              <a:off x="2278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6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3"/>
          <p:cNvGrpSpPr/>
          <p:nvPr/>
        </p:nvGrpSpPr>
        <p:grpSpPr>
          <a:xfrm>
            <a:off x="3507480" y="3898800"/>
            <a:ext cx="1825200" cy="1359000"/>
            <a:chOff x="3507480" y="3898800"/>
            <a:chExt cx="1825200" cy="1359000"/>
          </a:xfrm>
        </p:grpSpPr>
        <p:sp>
          <p:nvSpPr>
            <p:cNvPr id="433" name="Line 34"/>
            <p:cNvSpPr/>
            <p:nvPr/>
          </p:nvSpPr>
          <p:spPr>
            <a:xfrm flipV="1">
              <a:off x="4417560" y="389880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5"/>
            <p:cNvSpPr/>
            <p:nvPr/>
          </p:nvSpPr>
          <p:spPr>
            <a:xfrm>
              <a:off x="3507480" y="4432320"/>
              <a:ext cx="182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r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36"/>
          <p:cNvSpPr/>
          <p:nvPr/>
        </p:nvSpPr>
        <p:spPr>
          <a:xfrm>
            <a:off x="5704200" y="4610160"/>
            <a:ext cx="266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7"/>
          <p:cNvGrpSpPr/>
          <p:nvPr/>
        </p:nvGrpSpPr>
        <p:grpSpPr>
          <a:xfrm>
            <a:off x="486000" y="5405400"/>
            <a:ext cx="4487400" cy="511920"/>
            <a:chOff x="486000" y="5405400"/>
            <a:chExt cx="4487400" cy="511920"/>
          </a:xfrm>
        </p:grpSpPr>
        <p:sp>
          <p:nvSpPr>
            <p:cNvPr id="437" name="Text Box 38"/>
            <p:cNvSpPr/>
            <p:nvPr/>
          </p:nvSpPr>
          <p:spPr>
            <a:xfrm>
              <a:off x="486000" y="540540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>
              <a:off x="2106720" y="563400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019320" y="540720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89ECC-B04D-48DB-8FA2-04E43E1E38C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212760" y="54936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e those elements that appear in two or more reactants or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0"/>
          <p:cNvGrpSpPr/>
          <p:nvPr/>
        </p:nvGrpSpPr>
        <p:grpSpPr>
          <a:xfrm>
            <a:off x="883800" y="2309760"/>
            <a:ext cx="1483920" cy="1359000"/>
            <a:chOff x="883800" y="2309760"/>
            <a:chExt cx="1483920" cy="1359000"/>
          </a:xfrm>
        </p:grpSpPr>
        <p:sp>
          <p:nvSpPr>
            <p:cNvPr id="442" name="Line 11"/>
            <p:cNvSpPr/>
            <p:nvPr/>
          </p:nvSpPr>
          <p:spPr>
            <a:xfrm flipV="1">
              <a:off x="162360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88380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n le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3"/>
          <p:cNvGrpSpPr/>
          <p:nvPr/>
        </p:nvGrpSpPr>
        <p:grpSpPr>
          <a:xfrm>
            <a:off x="2585520" y="2309760"/>
            <a:ext cx="1483920" cy="1359000"/>
            <a:chOff x="2585520" y="2309760"/>
            <a:chExt cx="1483920" cy="1359000"/>
          </a:xfrm>
        </p:grpSpPr>
        <p:sp>
          <p:nvSpPr>
            <p:cNvPr id="445" name="Line 14"/>
            <p:cNvSpPr/>
            <p:nvPr/>
          </p:nvSpPr>
          <p:spPr>
            <a:xfrm flipV="1">
              <a:off x="332568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2585520" y="2843280"/>
              <a:ext cx="148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2x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17600" y="1852560"/>
            <a:ext cx="4487400" cy="511920"/>
            <a:chOff x="417600" y="1852560"/>
            <a:chExt cx="4487400" cy="511920"/>
          </a:xfrm>
        </p:grpSpPr>
        <p:sp>
          <p:nvSpPr>
            <p:cNvPr id="448" name="Text Box 29"/>
            <p:cNvSpPr/>
            <p:nvPr/>
          </p:nvSpPr>
          <p:spPr>
            <a:xfrm>
              <a:off x="417600" y="1852560"/>
              <a:ext cx="146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0"/>
            <p:cNvSpPr/>
            <p:nvPr/>
          </p:nvSpPr>
          <p:spPr>
            <a:xfrm>
              <a:off x="2038320" y="208116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1"/>
            <p:cNvSpPr/>
            <p:nvPr/>
          </p:nvSpPr>
          <p:spPr>
            <a:xfrm>
              <a:off x="2950920" y="185436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44"/>
          <p:cNvGrpSpPr/>
          <p:nvPr/>
        </p:nvGrpSpPr>
        <p:grpSpPr>
          <a:xfrm>
            <a:off x="3882240" y="2309760"/>
            <a:ext cx="1736640" cy="1349280"/>
            <a:chOff x="3882240" y="2309760"/>
            <a:chExt cx="1736640" cy="1349280"/>
          </a:xfrm>
        </p:grpSpPr>
        <p:sp>
          <p:nvSpPr>
            <p:cNvPr id="452" name="Line 33"/>
            <p:cNvSpPr/>
            <p:nvPr/>
          </p:nvSpPr>
          <p:spPr>
            <a:xfrm flipV="1">
              <a:off x="4749840" y="2309760"/>
              <a:ext cx="0" cy="457200"/>
            </a:xfrm>
            <a:prstGeom prst="line">
              <a:avLst/>
            </a:prstGeom>
            <a:ln w="1908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4"/>
            <p:cNvSpPr/>
            <p:nvPr/>
          </p:nvSpPr>
          <p:spPr>
            <a:xfrm>
              <a:off x="3882240" y="2833560"/>
              <a:ext cx="173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+ 3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(3x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54"/>
          <p:cNvGrpSpPr/>
          <p:nvPr/>
        </p:nvGrpSpPr>
        <p:grpSpPr>
          <a:xfrm>
            <a:off x="5578200" y="1700280"/>
            <a:ext cx="2427120" cy="764280"/>
            <a:chOff x="5578200" y="1700280"/>
            <a:chExt cx="2427120" cy="764280"/>
          </a:xfrm>
        </p:grpSpPr>
        <p:sp>
          <p:nvSpPr>
            <p:cNvPr id="455" name="Text Box 16"/>
            <p:cNvSpPr/>
            <p:nvPr/>
          </p:nvSpPr>
          <p:spPr>
            <a:xfrm>
              <a:off x="5578200" y="1852560"/>
              <a:ext cx="242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multiply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by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2"/>
            <p:cNvGrpSpPr/>
            <p:nvPr/>
          </p:nvGrpSpPr>
          <p:grpSpPr>
            <a:xfrm>
              <a:off x="7624800" y="1700280"/>
              <a:ext cx="380520" cy="764280"/>
              <a:chOff x="7624800" y="1700280"/>
              <a:chExt cx="380520" cy="764280"/>
            </a:xfrm>
          </p:grpSpPr>
          <p:sp>
            <p:nvSpPr>
              <p:cNvPr id="457" name="Text Box 37"/>
              <p:cNvSpPr/>
              <p:nvPr/>
            </p:nvSpPr>
            <p:spPr>
              <a:xfrm>
                <a:off x="7644600" y="1700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8"/>
              <p:cNvSpPr/>
              <p:nvPr/>
            </p:nvSpPr>
            <p:spPr>
              <a:xfrm>
                <a:off x="7624800" y="2081160"/>
                <a:ext cx="380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1"/>
              <p:cNvSpPr/>
              <p:nvPr/>
            </p:nvSpPr>
            <p:spPr>
              <a:xfrm>
                <a:off x="7644600" y="200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45"/>
          <p:cNvSpPr/>
          <p:nvPr/>
        </p:nvSpPr>
        <p:spPr>
          <a:xfrm>
            <a:off x="5447520" y="283356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= 7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n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55"/>
          <p:cNvGrpSpPr/>
          <p:nvPr/>
        </p:nvGrpSpPr>
        <p:grpSpPr>
          <a:xfrm>
            <a:off x="445680" y="3846600"/>
            <a:ext cx="4783320" cy="764280"/>
            <a:chOff x="445680" y="3846600"/>
            <a:chExt cx="4783320" cy="764280"/>
          </a:xfrm>
        </p:grpSpPr>
        <p:sp>
          <p:nvSpPr>
            <p:cNvPr id="462" name="Text Box 47"/>
            <p:cNvSpPr/>
            <p:nvPr/>
          </p:nvSpPr>
          <p:spPr>
            <a:xfrm>
              <a:off x="445680" y="3984480"/>
              <a:ext cx="186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     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2362320" y="4213080"/>
              <a:ext cx="76176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3274920" y="398628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3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Group 50"/>
            <p:cNvGrpSpPr/>
            <p:nvPr/>
          </p:nvGrpSpPr>
          <p:grpSpPr>
            <a:xfrm>
              <a:off x="1523880" y="3846600"/>
              <a:ext cx="380880" cy="764280"/>
              <a:chOff x="1523880" y="3846600"/>
              <a:chExt cx="380880" cy="764280"/>
            </a:xfrm>
          </p:grpSpPr>
          <p:sp>
            <p:nvSpPr>
              <p:cNvPr id="466" name="Text Box 51"/>
              <p:cNvSpPr/>
              <p:nvPr/>
            </p:nvSpPr>
            <p:spPr>
              <a:xfrm>
                <a:off x="1544040" y="3846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52"/>
              <p:cNvSpPr/>
              <p:nvPr/>
            </p:nvSpPr>
            <p:spPr>
              <a:xfrm>
                <a:off x="1523880" y="42274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3"/>
              <p:cNvSpPr/>
              <p:nvPr/>
            </p:nvSpPr>
            <p:spPr>
              <a:xfrm>
                <a:off x="1544040" y="4151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Text Box 56"/>
          <p:cNvSpPr/>
          <p:nvPr/>
        </p:nvSpPr>
        <p:spPr>
          <a:xfrm>
            <a:off x="5557320" y="3833640"/>
            <a:ext cx="358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remove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multiply both side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61"/>
          <p:cNvGrpSpPr/>
          <p:nvPr/>
        </p:nvGrpSpPr>
        <p:grpSpPr>
          <a:xfrm>
            <a:off x="429480" y="4746600"/>
            <a:ext cx="4812120" cy="511560"/>
            <a:chOff x="429480" y="4746600"/>
            <a:chExt cx="4812120" cy="511560"/>
          </a:xfrm>
        </p:grpSpPr>
        <p:sp>
          <p:nvSpPr>
            <p:cNvPr id="471" name="Text Box 58"/>
            <p:cNvSpPr/>
            <p:nvPr/>
          </p:nvSpPr>
          <p:spPr>
            <a:xfrm>
              <a:off x="429480" y="47466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9"/>
            <p:cNvSpPr/>
            <p:nvPr/>
          </p:nvSpPr>
          <p:spPr>
            <a:xfrm>
              <a:off x="2374920" y="49752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60"/>
            <p:cNvSpPr/>
            <p:nvPr/>
          </p:nvSpPr>
          <p:spPr>
            <a:xfrm>
              <a:off x="3287520" y="47480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272E-5AED-4FDF-9A00-5FDB75C240B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3"/>
          <p:cNvSpPr/>
          <p:nvPr/>
        </p:nvSpPr>
        <p:spPr>
          <a:xfrm>
            <a:off x="212760" y="5922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to make sure that you have the same number of each type of atom on both sides of the equ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429480" y="2125800"/>
            <a:ext cx="4812120" cy="511560"/>
            <a:chOff x="429480" y="2125800"/>
            <a:chExt cx="4812120" cy="511560"/>
          </a:xfrm>
        </p:grpSpPr>
        <p:sp>
          <p:nvSpPr>
            <p:cNvPr id="476" name="Text Box 35"/>
            <p:cNvSpPr/>
            <p:nvPr/>
          </p:nvSpPr>
          <p:spPr>
            <a:xfrm>
              <a:off x="429480" y="2125800"/>
              <a:ext cx="181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2C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6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7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6"/>
            <p:cNvSpPr/>
            <p:nvPr/>
          </p:nvSpPr>
          <p:spPr>
            <a:xfrm>
              <a:off x="2374920" y="2354400"/>
              <a:ext cx="76212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3287520" y="2127240"/>
              <a:ext cx="195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CO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 + 6H</a:t>
              </a:r>
              <a:r>
                <a:rPr b="0" lang="en-US" sz="2400" spc="-1" strike="noStrike" baseline="-25000">
                  <a:solidFill>
                    <a:srgbClr val="00007d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48"/>
          <p:cNvGrpSpPr/>
          <p:nvPr/>
        </p:nvGrpSpPr>
        <p:grpSpPr>
          <a:xfrm>
            <a:off x="5252040" y="3843360"/>
            <a:ext cx="3644640" cy="1791720"/>
            <a:chOff x="5252040" y="3843360"/>
            <a:chExt cx="3644640" cy="1791720"/>
          </a:xfrm>
        </p:grpSpPr>
        <p:sp>
          <p:nvSpPr>
            <p:cNvPr id="480" name="Text Box 38"/>
            <p:cNvSpPr/>
            <p:nvPr/>
          </p:nvSpPr>
          <p:spPr>
            <a:xfrm>
              <a:off x="5252040" y="38433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React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39"/>
            <p:cNvSpPr/>
            <p:nvPr/>
          </p:nvSpPr>
          <p:spPr>
            <a:xfrm>
              <a:off x="7441920" y="3843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40"/>
            <p:cNvSpPr/>
            <p:nvPr/>
          </p:nvSpPr>
          <p:spPr>
            <a:xfrm>
              <a:off x="5334120" y="426096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41"/>
            <p:cNvSpPr/>
            <p:nvPr/>
          </p:nvSpPr>
          <p:spPr>
            <a:xfrm>
              <a:off x="568152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42"/>
            <p:cNvSpPr/>
            <p:nvPr/>
          </p:nvSpPr>
          <p:spPr>
            <a:xfrm>
              <a:off x="550008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43"/>
            <p:cNvSpPr/>
            <p:nvPr/>
          </p:nvSpPr>
          <p:spPr>
            <a:xfrm>
              <a:off x="54838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4"/>
            <p:cNvSpPr/>
            <p:nvPr/>
          </p:nvSpPr>
          <p:spPr>
            <a:xfrm>
              <a:off x="7885080" y="43369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5"/>
            <p:cNvSpPr/>
            <p:nvPr/>
          </p:nvSpPr>
          <p:spPr>
            <a:xfrm>
              <a:off x="7703640" y="4756320"/>
              <a:ext cx="83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6"/>
            <p:cNvSpPr/>
            <p:nvPr/>
          </p:nvSpPr>
          <p:spPr>
            <a:xfrm>
              <a:off x="7687080" y="517536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47"/>
            <p:cNvSpPr/>
            <p:nvPr/>
          </p:nvSpPr>
          <p:spPr>
            <a:xfrm>
              <a:off x="5334120" y="5607000"/>
              <a:ext cx="3504960" cy="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52"/>
          <p:cNvGrpSpPr/>
          <p:nvPr/>
        </p:nvGrpSpPr>
        <p:grpSpPr>
          <a:xfrm>
            <a:off x="552600" y="2622600"/>
            <a:ext cx="3975120" cy="459720"/>
            <a:chOff x="552600" y="2622600"/>
            <a:chExt cx="3975120" cy="459720"/>
          </a:xfrm>
        </p:grpSpPr>
        <p:sp>
          <p:nvSpPr>
            <p:cNvPr id="491" name="Text Box 50"/>
            <p:cNvSpPr/>
            <p:nvPr/>
          </p:nvSpPr>
          <p:spPr>
            <a:xfrm>
              <a:off x="552600" y="2622600"/>
              <a:ext cx="155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 (2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51"/>
            <p:cNvSpPr/>
            <p:nvPr/>
          </p:nvSpPr>
          <p:spPr>
            <a:xfrm>
              <a:off x="3902040" y="26226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4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55"/>
          <p:cNvGrpSpPr/>
          <p:nvPr/>
        </p:nvGrpSpPr>
        <p:grpSpPr>
          <a:xfrm>
            <a:off x="464040" y="3098880"/>
            <a:ext cx="4638960" cy="459720"/>
            <a:chOff x="464040" y="3098880"/>
            <a:chExt cx="4638960" cy="459720"/>
          </a:xfrm>
        </p:grpSpPr>
        <p:sp>
          <p:nvSpPr>
            <p:cNvPr id="494" name="Text Box 53"/>
            <p:cNvSpPr/>
            <p:nvPr/>
          </p:nvSpPr>
          <p:spPr>
            <a:xfrm>
              <a:off x="4640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2 x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54"/>
            <p:cNvSpPr/>
            <p:nvPr/>
          </p:nvSpPr>
          <p:spPr>
            <a:xfrm>
              <a:off x="3340440" y="3098880"/>
              <a:ext cx="176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2 H (6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58"/>
          <p:cNvGrpSpPr/>
          <p:nvPr/>
        </p:nvGrpSpPr>
        <p:grpSpPr>
          <a:xfrm>
            <a:off x="465840" y="3575160"/>
            <a:ext cx="4876560" cy="459720"/>
            <a:chOff x="465840" y="3575160"/>
            <a:chExt cx="4876560" cy="459720"/>
          </a:xfrm>
        </p:grpSpPr>
        <p:sp>
          <p:nvSpPr>
            <p:cNvPr id="497" name="Text Box 56"/>
            <p:cNvSpPr/>
            <p:nvPr/>
          </p:nvSpPr>
          <p:spPr>
            <a:xfrm>
              <a:off x="465840" y="35751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7 x 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3061440" y="3575160"/>
              <a:ext cx="22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7d"/>
                  </a:solidFill>
                  <a:latin typeface="Comic Sans MS"/>
                </a:rPr>
                <a:t>14 O (4 x 2 + 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562C-0E9C-4BD6-A7EE-816F17E3C97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396720" y="328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Example 3.12 p98 : Balance the following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8936640" y="6561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95280" y="1022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itrogen monoxide reacts with oxygen to form nitrogen dioxide and balance this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93C4-EE5A-4E5F-80D7-97849ADB593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23640" y="4111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is the coefficient of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3124080" y="6248520"/>
            <a:ext cx="33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3505320"/>
            <a:ext cx="851220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1720" indent="-35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H.W.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What are  the coefficients of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,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and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respectively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when the equation is bala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_  A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 + _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 </a:t>
            </a:r>
            <a:r>
              <a:rPr b="0" lang="en-US" sz="2400" spc="-1" strike="noStrike">
                <a:solidFill>
                  <a:srgbClr val="00007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_  Al(OH)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   +   3C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,1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,2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,1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200" y="350028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2714-0FDC-49FC-A0A8-A90916C9705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181080" y="620640"/>
            <a:ext cx="9541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umber of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ass (atom or molec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molar mass (atomic mass or molecular m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is the relation between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258920" y="4076640"/>
                <a:ext cx="662472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0B73-6BDF-4CCC-892E-38DDBCA7A92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8 Amounts of Reactants an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importa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product will be formed from specific amount of reacta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.g. 6.0 g reactant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?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How much starting reactants must be used to obtain a specific amount of produ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.g. ? reactant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6.0 g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85143-88BD-448D-82F4-30885046D75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1280" y="4221000"/>
            <a:ext cx="8076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03_08"/>
          <p:cNvPicPr/>
          <p:nvPr/>
        </p:nvPicPr>
        <p:blipFill>
          <a:blip r:embed="rId1"/>
          <a:srcRect l="0" t="3039" r="0" b="0"/>
          <a:stretch/>
        </p:blipFill>
        <p:spPr>
          <a:xfrm>
            <a:off x="2195640" y="620640"/>
            <a:ext cx="6553080" cy="3273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79280" y="47628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Comic Sans MS"/>
              </a:rPr>
              <a:t>Mo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179280" y="1557360"/>
                <a:ext cx="173196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E8C31-A837-4CC7-8B67-FB191166047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3 p1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856g of C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is consumed by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person over a certain period, what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mass of CO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produ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68360" y="1303200"/>
                <a:ext cx="7921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54F8-90B2-4347-B704-7478EB10E8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quantities of known substances into m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6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8920" y="1628640"/>
                <a:ext cx="6480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356400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258920" y="4653000"/>
                <a:ext cx="58341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56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DC61-AF93-48FA-B184-9410F5F862F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ow we get the Average Atomic M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∑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(The natural abundance x Atomic Mass) </a:t>
            </a:r>
            <a:r>
              <a:rPr b="1" lang="en-GB" sz="2000" spc="-1" strike="noStrike" baseline="-25000">
                <a:solidFill>
                  <a:srgbClr val="006600"/>
                </a:solidFill>
                <a:latin typeface="Comic Sans MS"/>
              </a:rPr>
              <a:t>for each isot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isotopes of Carbon are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&amp;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natural abundance of each isotop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98.90% &amp; 1.10%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verage Atomic Mass of natural carb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0.9890 x 12.00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2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+ (0.0110 x 13.00335 amu)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13C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12.0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98.90% = 98.90/100 = 0.9890; 1.10% = 1.10/100 = 0.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Notes: carbon is mainly </a:t>
            </a:r>
            <a:r>
              <a:rPr b="0" lang="en-GB" sz="2400" spc="-1" strike="noStrike" baseline="30000">
                <a:solidFill>
                  <a:srgbClr val="2009a7"/>
                </a:solidFill>
                <a:latin typeface="Comic Sans MS"/>
              </a:rPr>
              <a:t>12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the Average Atomic Mass is 12.01 amu </a:t>
            </a:r>
            <a:r>
              <a:rPr b="0" lang="en-GB" sz="2400" spc="-1" strike="noStrike">
                <a:solidFill>
                  <a:srgbClr val="2009a7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closer to 12 amu than 13 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8A77-8BFE-472D-9845-8CAB17CBB0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coefficients in balanced equation to calculate the number of moles of the sought quantit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C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6 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6 mole of CO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754 mole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 mole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39640" y="4292640"/>
                <a:ext cx="7991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4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0D8B-AFC2-4902-BBB4-1450FDD6F17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oles of sought quantity into desired uni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mmary: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e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grams of C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4360" y="2349360"/>
                <a:ext cx="792144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5A4B-6E8A-4578-AF7E-4CF0CCACC90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4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0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How many grams of Li are need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produce 9.89g of H</a:t>
            </a:r>
            <a:r>
              <a:rPr b="0" lang="en-GB" sz="36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a50021"/>
                </a:solidFill>
                <a:uFillTx/>
                <a:latin typeface="Comic Sans MS"/>
              </a:rPr>
              <a:t>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H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of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i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grams of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395280" y="1268280"/>
                <a:ext cx="8497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9CAA-00AE-461C-A460-335FD439C73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4358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balanced chem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grams of </a:t>
            </a:r>
            <a:r>
              <a:rPr b="0" lang="en-GB" sz="2800" spc="-1" strike="noStrike">
                <a:solidFill>
                  <a:srgbClr val="666633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oles of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92360" y="22827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Bal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1706400" y="3860640"/>
                <a:ext cx="49388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6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0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68360" y="1628640"/>
                <a:ext cx="8207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iO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97DD-AEA3-4DD1-B2D8-6F4E0D3F065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 ratio (from the balanced equation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les of 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2 mole of Li 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3200" spc="-1" strike="noStrike" baseline="-25000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 mole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?mole of Li  </a:t>
            </a: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4.927 mole H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755640" y="3141720"/>
                <a:ext cx="75834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7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700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187280" y="5084640"/>
                <a:ext cx="680436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4</m:t>
                        </m:r>
                        <m:r>
                          <m:rPr>
                            <m:lit/>
                            <m:nor/>
                          </m:rPr>
                          <m:t xml:space="preserve"> mol </m:t>
                        </m:r>
                        <m:r>
                          <m:t xml:space="preserve">x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40000" y="4505400"/>
            <a:ext cx="77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oles of Li → grams of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BD1B-B153-46F6-896E-DDB87436734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3.9 Limiting Reagent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كاشف المحد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miting Reagen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used up first in a reaction and thus determine the amount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xcess Reagent 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الكاشف الفائض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reactant present in quantities greater than necessary to react with the quantity of the limiting reagent (the one that is left at the end of the 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miting reagent is in a reaction of more than one reac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3B11-83A3-4B3F-BD7D-BAB004A12FD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6960" y="387360"/>
            <a:ext cx="37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009a7"/>
                </a:solidFill>
                <a:uFillTx/>
                <a:latin typeface="Comic Sans MS"/>
              </a:rPr>
              <a:t>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rcRect l="18790" t="2707" r="18790" b="0"/>
          <a:stretch/>
        </p:blipFill>
        <p:spPr>
          <a:xfrm>
            <a:off x="5045040" y="260280"/>
            <a:ext cx="2622600" cy="6553440"/>
          </a:xfrm>
          <a:prstGeom prst="rect">
            <a:avLst/>
          </a:prstGeom>
          <a:ln w="0">
            <a:noFill/>
          </a:ln>
        </p:spPr>
      </p:pic>
      <p:grpSp>
        <p:nvGrpSpPr>
          <p:cNvPr id="548" name=""/>
          <p:cNvGrpSpPr/>
          <p:nvPr/>
        </p:nvGrpSpPr>
        <p:grpSpPr>
          <a:xfrm>
            <a:off x="1191600" y="2360520"/>
            <a:ext cx="3009240" cy="510120"/>
            <a:chOff x="1191600" y="2360520"/>
            <a:chExt cx="3009240" cy="510120"/>
          </a:xfrm>
        </p:grpSpPr>
        <p:sp>
          <p:nvSpPr>
            <p:cNvPr id="549" name=""/>
            <p:cNvSpPr/>
            <p:nvPr/>
          </p:nvSpPr>
          <p:spPr>
            <a:xfrm>
              <a:off x="1191600" y="2360520"/>
              <a:ext cx="300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NO + 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2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62120" y="25812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62840" y="340848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is the limiting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94240" y="4286160"/>
            <a:ext cx="1104840" cy="1206360"/>
            <a:chOff x="5394240" y="4286160"/>
            <a:chExt cx="1104840" cy="1206360"/>
          </a:xfrm>
        </p:grpSpPr>
        <p:sp>
          <p:nvSpPr>
            <p:cNvPr id="553" name=""/>
            <p:cNvSpPr/>
            <p:nvPr/>
          </p:nvSpPr>
          <p:spPr>
            <a:xfrm>
              <a:off x="6080040" y="428616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94240" y="4705200"/>
              <a:ext cx="41904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2200" y="5111640"/>
              <a:ext cx="419400" cy="380880"/>
            </a:xfrm>
            <a:prstGeom prst="ellipse">
              <a:avLst/>
            </a:prstGeom>
            <a:noFill/>
            <a:ln w="284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827280" y="4457880"/>
            <a:ext cx="360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9999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 is the exces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4720" y="10987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ant used up first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C24C-EE03-4CCE-B2B4-8F50E6C2013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Limiting Reag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First: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we have to determine which reactant is the limiting reagent and which is the excess reag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after we know which one is the limiting reagent, we could  determine the amount of the produc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2009a7"/>
                </a:solidFill>
                <a:latin typeface="Comic Sans MS"/>
              </a:rPr>
              <a:t>Third:</a:t>
            </a: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 after we know the excess reagent, we could determine how much excess of it is left at the end of the reaction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2A4D-FC04-4C98-A35A-E00B0A3D72A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3.15 P10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637.2g of N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re treated with 1142g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39640" y="1125360"/>
                <a:ext cx="792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AEC8-41DD-446E-A4CD-D399C50CB4CB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Which of the two reactants is the limiting reagent? 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المتفاعل اللذي يعطي </a:t>
            </a:r>
            <a:r>
              <a:rPr b="0" lang="ar-SA" sz="3200" spc="-1" strike="noStrike" u="sng">
                <a:solidFill>
                  <a:srgbClr val="9900cc"/>
                </a:solidFill>
                <a:uFillTx/>
                <a:latin typeface="Comic Sans MS"/>
              </a:rPr>
              <a:t>مولات اقل من الناتج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 هو الكاشف المحدد, لانه يحد من كميه الناتج التي يمكن ان تتكون</a:t>
            </a:r>
            <a:r>
              <a:rPr b="0" lang="ar-SA" sz="32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 the first reactant N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 637.2 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826920" y="4221000"/>
                <a:ext cx="6409080" cy="25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تحول الى مو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0781-5EAC-4F83-ADB4-8FC62DFD15F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3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64360" y="-27000"/>
            <a:ext cx="1979640" cy="863640"/>
          </a:xfrm>
          <a:prstGeom prst="borderCallout1">
            <a:avLst>
              <a:gd name="adj1" fmla="val 18750"/>
              <a:gd name="adj2" fmla="val -8333"/>
              <a:gd name="adj3" fmla="val 186763"/>
              <a:gd name="adj4" fmla="val -279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erage atomic mass (12.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40E0-7F5B-4789-A13C-075BACF451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ole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oles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1 mole of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7.416moles of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  ?n (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95280" y="2924280"/>
                <a:ext cx="8353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6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32E3-C7BC-44F8-973A-E60978C286B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the second reactant 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1. 1142 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Mole rat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5.949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84360" y="1628640"/>
                <a:ext cx="38880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42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692360" y="4653000"/>
                <a:ext cx="5832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9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324000" y="5661000"/>
            <a:ext cx="8135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the limiting reagent is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it produces a smaller amount of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5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a50021"/>
                </a:solidFill>
                <a:latin typeface="Arial"/>
              </a:rPr>
              <a:t>تحول الى م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18CB-9C93-4228-A0B7-1E136A46647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75000"/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alculate the mass of (NH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O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18.71 mol of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 using 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limiting reag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vert to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611280" y="2368440"/>
                <a:ext cx="777708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24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963D-A26A-4BFD-84FD-409E97F15BB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much excess reagent (in grams) is left at the end of the re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Excess reagent is CO</a:t>
            </a:r>
            <a:r>
              <a:rPr b="1" lang="en-GB" sz="32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grams – reacted 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left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nitial moles of CO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5.9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89DC-10F3-4507-A4AF-AC7322C27F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Reacted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(calculated as follow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 that 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1 mol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mole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n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8.71 mol (N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acted is 18.71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835280" y="2708280"/>
                <a:ext cx="590544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7B9F5-81B1-4AB5-9873-824CF558651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oles of C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eft = initial moles – reacted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25.95 – 18.71 = 7.24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2. mole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gram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 the mass of CO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remaining (left) = 319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2708280"/>
                <a:ext cx="741672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mol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9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12F2-7F35-4AE5-AE8D-38729E7FF32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2"/>
          <p:cNvSpPr/>
          <p:nvPr/>
        </p:nvSpPr>
        <p:spPr>
          <a:xfrm>
            <a:off x="395280" y="404640"/>
            <a:ext cx="784872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.W. # 1: When 22.0 g NaCl and 21.0 g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are mixed and react according to the   equation below, which is the limiting reagent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NaCl + H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2HCl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)   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)    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)    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)     No reagent is lim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-36360" y="3573360"/>
          <a:ext cx="8153280" cy="3048120"/>
        </p:xfrm>
        <a:graphic>
          <a:graphicData uri="http://schemas.openxmlformats.org/drawingml/2006/table">
            <a:tbl>
              <a:tblPr/>
              <a:tblGrid>
                <a:gridCol w="626760"/>
                <a:gridCol w="522360"/>
                <a:gridCol w="7004160"/>
              </a:tblGrid>
              <a:tr h="1913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H.W. # 2: Consider the combustion of carbon monoxide (CO) in oxygen g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CO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+ 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2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tarting with 3.60 moles of CO, calculate the number of moles of CO</a:t>
                      </a:r>
                      <a:r>
                        <a:rPr b="0" lang="en-US" sz="2000" spc="-1" strike="noStrike" baseline="-25000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 produced </a:t>
                      </a:r>
                      <a:r>
                        <a:rPr b="0" lang="en-US" sz="2000" spc="-1" strike="noStrike" u="sng">
                          <a:solidFill>
                            <a:srgbClr val="006600"/>
                          </a:solidFill>
                          <a:uFillTx/>
                          <a:latin typeface="Comic Sans MS"/>
                          <a:ea typeface="Times New Roman"/>
                        </a:rPr>
                        <a:t>if there is enough oxygen gas to react with all of the 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.2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4.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.6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80 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 flipH="1">
            <a:off x="324000" y="3429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51280" y="51325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he limiting Reagent is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35F6-A944-45BC-85BD-43AAA56B65B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79280" y="119700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250920" y="34196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product actually obtained from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1"/>
          <p:cNvGrpSpPr/>
          <p:nvPr/>
        </p:nvGrpSpPr>
        <p:grpSpPr>
          <a:xfrm>
            <a:off x="1779480" y="4587840"/>
            <a:ext cx="5089320" cy="941400"/>
            <a:chOff x="1779480" y="4587840"/>
            <a:chExt cx="5089320" cy="941400"/>
          </a:xfrm>
        </p:grpSpPr>
        <p:sp>
          <p:nvSpPr>
            <p:cNvPr id="592" name="Text Box 4"/>
            <p:cNvSpPr/>
            <p:nvPr/>
          </p:nvSpPr>
          <p:spPr>
            <a:xfrm>
              <a:off x="1779480" y="4829400"/>
              <a:ext cx="185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% Yield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9"/>
            <p:cNvGrpSpPr/>
            <p:nvPr/>
          </p:nvGrpSpPr>
          <p:grpSpPr>
            <a:xfrm>
              <a:off x="3696120" y="4587840"/>
              <a:ext cx="2379240" cy="941400"/>
              <a:chOff x="3696120" y="4587840"/>
              <a:chExt cx="2379240" cy="941400"/>
            </a:xfrm>
          </p:grpSpPr>
          <p:sp>
            <p:nvSpPr>
              <p:cNvPr id="594" name="Text Box 5"/>
              <p:cNvSpPr/>
              <p:nvPr/>
            </p:nvSpPr>
            <p:spPr>
              <a:xfrm>
                <a:off x="4019400" y="4587840"/>
                <a:ext cx="142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ctu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6"/>
              <p:cNvSpPr/>
              <p:nvPr/>
            </p:nvSpPr>
            <p:spPr>
              <a:xfrm>
                <a:off x="3696120" y="5160960"/>
                <a:ext cx="1957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heoretical Yi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8"/>
              <p:cNvSpPr/>
              <p:nvPr/>
            </p:nvSpPr>
            <p:spPr>
              <a:xfrm>
                <a:off x="3713400" y="5102280"/>
                <a:ext cx="2361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Text Box 10"/>
            <p:cNvSpPr/>
            <p:nvPr/>
          </p:nvSpPr>
          <p:spPr>
            <a:xfrm>
              <a:off x="6114960" y="48420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3"/>
          <p:cNvSpPr/>
          <p:nvPr/>
        </p:nvSpPr>
        <p:spPr>
          <a:xfrm>
            <a:off x="789120" y="5862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ctual Yield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is  always le</a:t>
            </a:r>
            <a:r>
              <a:rPr b="0" lang="en-GB" sz="2800" spc="-1" strike="noStrike">
                <a:solidFill>
                  <a:srgbClr val="0070c0"/>
                </a:solidFill>
                <a:latin typeface="Comic Sans MS"/>
              </a:rPr>
              <a:t>ss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0253-A7BD-4D4F-85F8-EC2F23C3C08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240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3.10 Reaction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179280" y="119700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oretical Yield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amount of product that would result if all the limiting reagent reac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Limiting regent mass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limiting reagen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moles of product 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rams of product (theoretical yield of the produ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97B5-170E-4BE5-A7B4-C1C2E0BAC76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2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3.16 p10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54 x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Cl</a:t>
            </a:r>
            <a:r>
              <a:rPr b="0" lang="en-GB" sz="32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are reacted with 1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theoretical yield of Ti in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Calculate the percent yield if 7.91 x 10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g of Ti are actually obt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95280" y="1066680"/>
                <a:ext cx="79930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iCl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4044-7719-4285-82EF-00D597BFD4F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09:20:31Z</dcterms:modified>
  <cp:revision>464</cp:revision>
  <dc:subject/>
  <dc:title>General Chemistry CHEM 110</dc:title>
</cp:coreProperties>
</file>